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1E8-9FC1-4AC3-8E3A-B66ACA37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F5A-A8F4-4778-B3D5-4F9435E3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4D4-73B1-4EE0-9A75-5BC660F6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910-18FD-4ECD-A5B2-113B014A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8C79-33E7-4CA2-AAF2-668F0EC1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0962-D41C-4C64-8D4D-28D8421A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8E36-7B1B-42CD-B8EA-0A6A1AEE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6751-08FD-4CDB-A4A7-B2C8875D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D0ED-A9C4-4530-B4EE-333B489F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A533-7A1B-4632-8237-7390F2B0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ECBE-DA6F-4FF9-9FC4-EB96B7B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6CF-FC4D-4D2A-89E4-110C961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DF39-BE2B-4C32-BD11-F7CF1441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F5A6-6352-42B1-A150-2143BB3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811B-D5B8-4F83-86A0-02C80C6E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0DF7-9994-47B8-8172-03845108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83AA-B696-4A25-9D6F-D166404A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857-2136-4A6A-B34A-CDD6DBAD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D0E-6CD8-4E9F-BA09-68807D37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8AF-CBCA-4417-986E-CDF27F8A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651-0389-42A1-A87E-1AC95CAD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18E-C906-4B4E-8E47-6A5A245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B5A-4619-4B0F-90B8-2535E56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976-A681-4A0D-B610-4A78F82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64E6-47F1-4BE2-A47A-9CB03FB83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5D66-A498-4EEA-A9CA-14E511296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lang="en-US" sz="8800" spc="-1" strike="noStrike">
                <a:solidFill>
                  <a:srgbClr val="fffc00"/>
                </a:solidFill>
                <a:latin typeface="Arial Black"/>
              </a:rPr>
              <a:t>RELIGIONS IN BRITAIN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724280"/>
            <a:ext cx="67816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cture 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ther conventional Christian church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hol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churches – non-conformists (Puritans, Calvinists, those who didn’t accept the authority of the Anglican church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Baptists – strict interpretation of the B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Quakers (the Society of Friends) – lack of clergy and pacif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ngelical churches and sects. Pentecostal church – emphasis on the spiritual and miracul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on-Christian relig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m (Muslims are the most numerous immigrants): More than 1000 mosques in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ism. The second largest Jewish community  in Europe is in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ge reli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eoso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Bud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rui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hristian Scien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Democracy, multiculturalism and traditionalism of British society have determined the situation with religion in the country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great variety of religions, confessions and s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 is separated from poli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narch cannot be a Cathol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 senior bishops in the Church of England are all members of the House of L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vernment has the right to veto the choice of bi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religious instruction in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tablished Church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here in Europe but in Brit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chu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ficial religions of the country by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urch of England (Anglican Chur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esbyterian Church of Scot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c00"/>
                </a:solidFill>
                <a:latin typeface="Arial Black"/>
              </a:rPr>
              <a:t>The Church of England (The Anglican Church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in 15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d of the Church is an English Monarch. The monarch appoints archbishops and bis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scopalian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igious leaders: Archbishop of Canterbury (the seat is Lambeth Palace in London) and Archbishop of 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 senior bis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remaining bis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structure of the Anglican Churc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ish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in charge of a district called </a:t>
            </a:r>
            <a:r>
              <a:rPr b="1" i="1" lang="en-US" sz="4400" spc="-1" strike="noStrike">
                <a:solidFill>
                  <a:srgbClr val="fffc00"/>
                </a:solidFill>
                <a:latin typeface="Arial"/>
              </a:rPr>
              <a:t>dioce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ch diocese has a cathed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ch diocese is divided into </a:t>
            </a:r>
            <a:r>
              <a:rPr b="1" i="1" lang="en-US" sz="4400" spc="-1" strike="noStrike">
                <a:solidFill>
                  <a:srgbClr val="fffc00"/>
                </a:solidFill>
                <a:latin typeface="Arial"/>
              </a:rPr>
              <a:t>paris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ch parish is in the care of 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vic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wo branches of the Church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c00"/>
                </a:solidFill>
                <a:latin typeface="Arial"/>
              </a:rPr>
              <a:t>High Churc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milar to Catholic in terms of the ritual, the decoration of the church, the robes of priests, the ceremonies and proc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c00"/>
                </a:solidFill>
                <a:latin typeface="Arial"/>
              </a:rPr>
              <a:t>Low Chur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often called evangelical. Strictly and consciously opposed to Catholicism. The content of the Bible is only important, the rest is of no val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men in the Churc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ests in the Church of England are allowed to be marri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1987 women were ordained (allowed to become priest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esbyterian Church of Scotland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ly separate from the Anglican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its own organisation and appoints its own ministers. It h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 bis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evere form of Protestantism founded in the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he teaching of the great French reformer Calv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by John Knox, a Roman Catholic priest, converted to Protestant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Wal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s no established chur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nglican Church was disestablished in 19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re is a church of Welsh origin called both “Calvinistic Methodist” and “Presbyterian Church of Wales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1:42:44Z</dcterms:created>
  <dc:creator>ALLA</dc:creator>
  <dc:description/>
  <dc:language>en-US</dc:language>
  <cp:lastModifiedBy>ALLA</cp:lastModifiedBy>
  <dcterms:modified xsi:type="dcterms:W3CDTF">2008-04-14T05:26:45Z</dcterms:modified>
  <cp:revision>13</cp:revision>
  <dc:subject/>
  <dc:title> RELIGIONS IN BRITAIN</dc:title>
</cp:coreProperties>
</file>